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D29-087D-4E6D-B4D0-EC91504B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38F-80AC-41A0-A35D-16652F9F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B19-2BF6-4529-A24E-BE003A0F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4CC-59C5-43BB-8CD4-BF045E41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F48C-7D96-4C7A-9D5D-0C9E561C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BA5-1C2E-46C2-9C41-F267977C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DEB9-9F1F-452A-9C04-5EDD5001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73CE-A530-482B-8CB8-AB6F3890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7168-0F85-4F36-AAFA-DBCCCBA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038C-D8DA-4791-B247-DF405943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C124-926F-4A76-9EF6-1FF7C3B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1D7-64D5-4A2E-8073-CAF51643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0AB-81B3-4E21-BA14-B06B3C70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5FD-0A50-4125-A3C8-B6F5208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739-D0DC-44CA-A707-2DD14C8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BBEE-3506-4A9B-9D0D-E95E965F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26B1-D44B-42EE-8B08-54FCF93A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A73-455B-4381-9050-F56B6508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B52-37DC-4A85-878D-A1778F1C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DBB-B965-40AC-86A3-21261204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3D4-BA0E-496D-8832-616F8008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2FC-A9AA-4630-9E20-A71B007D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A2F-36B5-4806-8008-734E44A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7D2-F0B2-4C37-8392-59B919C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D1D-6D2F-46CA-802A-EC98E01D36C4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80CA-1A8D-46B5-935A-0CF6FA35E91B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un.es/index.php?id=91" TargetMode="External"/><Relationship Id="rId2" Type="http://schemas.openxmlformats.org/officeDocument/2006/relationships/hyperlink" Target="http://www.cun.es/index.php?id=91" TargetMode="External"/><Relationship Id="rId3" Type="http://schemas.openxmlformats.org/officeDocument/2006/relationships/hyperlink" Target="http://www.cun.es/index.php?id=91" TargetMode="External"/><Relationship Id="rId4" Type="http://schemas.openxmlformats.org/officeDocument/2006/relationships/hyperlink" Target="http://www.cun.es/index.php?id=91" TargetMode="External"/><Relationship Id="rId5" Type="http://schemas.openxmlformats.org/officeDocument/2006/relationships/hyperlink" Target="http://www.cun.es/index.php?id=91" TargetMode="External"/><Relationship Id="rId6" Type="http://schemas.openxmlformats.org/officeDocument/2006/relationships/hyperlink" Target="http://www.buenasalud.com/dic/" TargetMode="External"/><Relationship Id="rId7" Type="http://schemas.openxmlformats.org/officeDocument/2006/relationships/hyperlink" Target="http://www.buenasalud.com/dic/" TargetMode="External"/><Relationship Id="rId8" Type="http://schemas.openxmlformats.org/officeDocument/2006/relationships/hyperlink" Target="http://www.buenasalud.com/dic/" TargetMode="External"/><Relationship Id="rId9" Type="http://schemas.openxmlformats.org/officeDocument/2006/relationships/hyperlink" Target="http://www.buenasalud.com/dic/" TargetMode="External"/><Relationship Id="rId10" Type="http://schemas.openxmlformats.org/officeDocument/2006/relationships/hyperlink" Target="http://www.campusred.net/campusalud/listados/lista_glosario.asp" TargetMode="External"/><Relationship Id="rId11" Type="http://schemas.openxmlformats.org/officeDocument/2006/relationships/hyperlink" Target="http://www.campusred.net/campusalud/listados/lista_glosario.asp" TargetMode="External"/><Relationship Id="rId12" Type="http://schemas.openxmlformats.org/officeDocument/2006/relationships/hyperlink" Target="http://www.campusred.net/campusalud/listados/lista_glosario.asp" TargetMode="External"/><Relationship Id="rId13" Type="http://schemas.openxmlformats.org/officeDocument/2006/relationships/hyperlink" Target="http://www.campusred.net/campusalud/listados/lista_glosario.asp" TargetMode="External"/><Relationship Id="rId14" Type="http://schemas.openxmlformats.org/officeDocument/2006/relationships/hyperlink" Target="http://www.campusred.net/campusalud/listados/lista_glosario.asp" TargetMode="External"/><Relationship Id="rId15" Type="http://schemas.openxmlformats.org/officeDocument/2006/relationships/hyperlink" Target="http://www.campusred.net/campusalud/listados/lista_glosario.asp" TargetMode="External"/><Relationship Id="rId16" Type="http://schemas.openxmlformats.org/officeDocument/2006/relationships/hyperlink" Target="http://www.campusred.net/campusalud/listados/lista_glosario.asp" TargetMode="External"/><Relationship Id="rId17" Type="http://schemas.openxmlformats.org/officeDocument/2006/relationships/hyperlink" Target="http://www.nlm.nih.gov/medlineplus/spanish/encyclopedia.html" TargetMode="External"/><Relationship Id="rId18" Type="http://schemas.openxmlformats.org/officeDocument/2006/relationships/hyperlink" Target="http://www.nlm.nih.gov/medlineplus/spanish/encyclopedia.html" TargetMode="External"/><Relationship Id="rId19" Type="http://schemas.openxmlformats.org/officeDocument/2006/relationships/hyperlink" Target="http://www.nlm.nih.gov/medlineplus/spanish/encyclopedia.html" TargetMode="External"/><Relationship Id="rId20" Type="http://schemas.openxmlformats.org/officeDocument/2006/relationships/hyperlink" Target="http://www.nlm.nih.gov/medlineplus/spanish/encyclopedia.html" TargetMode="External"/><Relationship Id="rId21" Type="http://schemas.openxmlformats.org/officeDocument/2006/relationships/hyperlink" Target="http://www.nlm.nih.gov/medlineplus/spanish/encyclopedia.html" TargetMode="External"/><Relationship Id="rId22" Type="http://schemas.openxmlformats.org/officeDocument/2006/relationships/hyperlink" Target="http://www.nlm.nih.gov/medlineplus/spanish/encyclopedia.html" TargetMode="External"/><Relationship Id="rId23" Type="http://schemas.openxmlformats.org/officeDocument/2006/relationships/hyperlink" Target="http://www.nlm.nih.gov/medlineplus/spanish/encyclopedia.html" TargetMode="External"/><Relationship Id="rId24" Type="http://schemas.openxmlformats.org/officeDocument/2006/relationships/hyperlink" Target="http://www.nlm.nih.gov/medlineplus/spanish/encyclopedia.html" TargetMode="External"/><Relationship Id="rId25" Type="http://schemas.openxmlformats.org/officeDocument/2006/relationships/hyperlink" Target="http://www.nlm.nih.gov/medlineplus/spanish/encyclopedia.html" TargetMode="External"/><Relationship Id="rId26" Type="http://schemas.openxmlformats.org/officeDocument/2006/relationships/hyperlink" Target="http://www.averamckennan.org/ahp/healthinfo/enciclopedia.aspx" TargetMode="External"/><Relationship Id="rId27" Type="http://schemas.openxmlformats.org/officeDocument/2006/relationships/hyperlink" Target="http://www.averamckennan.org/ahp/healthinfo/enciclopedia.aspx" TargetMode="External"/><Relationship Id="rId28" Type="http://schemas.openxmlformats.org/officeDocument/2006/relationships/hyperlink" Target="http://www.averamckennan.org/ahp/healthinfo/enciclopedia.aspx" TargetMode="External"/><Relationship Id="rId29" Type="http://schemas.openxmlformats.org/officeDocument/2006/relationships/hyperlink" Target="http://www.averamckennan.org/ahp/healthinfo/enciclopedia.aspx" TargetMode="External"/><Relationship Id="rId30" Type="http://schemas.openxmlformats.org/officeDocument/2006/relationships/hyperlink" Target="http://www.averamckennan.org/ahp/healthinfo/enciclopedia.aspx" TargetMode="External"/><Relationship Id="rId31" Type="http://schemas.openxmlformats.org/officeDocument/2006/relationships/hyperlink" Target="http://www.averamckennan.org/ahp/healthinfo/enciclopedia.aspx" TargetMode="External"/><Relationship Id="rId32" Type="http://schemas.openxmlformats.org/officeDocument/2006/relationships/hyperlink" Target="http://www.averamckennan.org/ahp/healthinfo/enciclopedia.aspx" TargetMode="External"/><Relationship Id="rId33" Type="http://schemas.openxmlformats.org/officeDocument/2006/relationships/hyperlink" Target="http://www.averamckennan.org/ahp/healthinfo/enciclopedia.aspx" TargetMode="External"/><Relationship Id="rId34" Type="http://schemas.openxmlformats.org/officeDocument/2006/relationships/hyperlink" Target="http://www.averamckennan.org/ahp/healthinfo/enciclopedia.aspx" TargetMode="External"/><Relationship Id="rId3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omedic.ro/" TargetMode="External"/><Relationship Id="rId2" Type="http://schemas.openxmlformats.org/officeDocument/2006/relationships/hyperlink" Target="http://www.romedic.ro/" TargetMode="External"/><Relationship Id="rId3" Type="http://schemas.openxmlformats.org/officeDocument/2006/relationships/hyperlink" Target="http://www.romedic.ro/" TargetMode="External"/><Relationship Id="rId4" Type="http://schemas.openxmlformats.org/officeDocument/2006/relationships/hyperlink" Target="http://www.romedic.ro/" TargetMode="External"/><Relationship Id="rId5" Type="http://schemas.openxmlformats.org/officeDocument/2006/relationships/hyperlink" Target="http://www.sfatulmedicului.ro/" TargetMode="External"/><Relationship Id="rId6" Type="http://schemas.openxmlformats.org/officeDocument/2006/relationships/hyperlink" Target="http://www.sfatulmedicului.ro/" TargetMode="External"/><Relationship Id="rId7" Type="http://schemas.openxmlformats.org/officeDocument/2006/relationships/hyperlink" Target="http://www.pcfarm.ro/articole.php" TargetMode="External"/><Relationship Id="rId8" Type="http://schemas.openxmlformats.org/officeDocument/2006/relationships/hyperlink" Target="http://www.pcfarm.ro/articole.php" TargetMode="External"/><Relationship Id="rId9" Type="http://schemas.openxmlformats.org/officeDocument/2006/relationships/hyperlink" Target="http://www.pcfarm.ro/articole.php" TargetMode="External"/><Relationship Id="rId10" Type="http://schemas.openxmlformats.org/officeDocument/2006/relationships/hyperlink" Target="http://www.pcfarm.ro/articole.php" TargetMode="External"/><Relationship Id="rId11" Type="http://schemas.openxmlformats.org/officeDocument/2006/relationships/hyperlink" Target="http://www.pcfarm.ro/articole.php" TargetMode="External"/><Relationship Id="rId12" Type="http://schemas.openxmlformats.org/officeDocument/2006/relationships/hyperlink" Target="http://www.emedonline.ro/" TargetMode="External"/><Relationship Id="rId13" Type="http://schemas.openxmlformats.org/officeDocument/2006/relationships/hyperlink" Target="http://www.emedonline.ro/" TargetMode="External"/><Relationship Id="rId14" Type="http://schemas.openxmlformats.org/officeDocument/2006/relationships/hyperlink" Target="http://www.emedonline.ro/" TargetMode="External"/><Relationship Id="rId15" Type="http://schemas.openxmlformats.org/officeDocument/2006/relationships/hyperlink" Target="http://www.emedonline.ro/" TargetMode="External"/><Relationship Id="rId16" Type="http://schemas.openxmlformats.org/officeDocument/2006/relationships/hyperlink" Target="http://www.sfatulmedicului.ro/Dictionar_medical/" TargetMode="External"/><Relationship Id="rId17" Type="http://schemas.openxmlformats.org/officeDocument/2006/relationships/hyperlink" Target="http://www.sfatulmedicului.ro/Dictionar_medical/" TargetMode="External"/><Relationship Id="rId18" Type="http://schemas.openxmlformats.org/officeDocument/2006/relationships/hyperlink" Target="http://www.sfatulmedicului.ro/Dictionar_medical/" TargetMode="External"/><Relationship Id="rId19" Type="http://schemas.openxmlformats.org/officeDocument/2006/relationships/hyperlink" Target="http://www.sfatulmedicului.ro/Dictionar_medical/" TargetMode="External"/><Relationship Id="rId20" Type="http://schemas.openxmlformats.org/officeDocument/2006/relationships/hyperlink" Target="http://www.sfatulmedicului.ro/Dictionar_medical/" TargetMode="External"/><Relationship Id="rId21" Type="http://schemas.openxmlformats.org/officeDocument/2006/relationships/hyperlink" Target="http://www.sfatulmedicului.ro/Dictionar_medical/" TargetMode="External"/><Relationship Id="rId22" Type="http://schemas.openxmlformats.org/officeDocument/2006/relationships/hyperlink" Target="http://www.medikal.ro/dictionarmedical.html" TargetMode="External"/><Relationship Id="rId23" Type="http://schemas.openxmlformats.org/officeDocument/2006/relationships/hyperlink" Target="http://www.medikal.ro/dictionarmedical.html" TargetMode="External"/><Relationship Id="rId24" Type="http://schemas.openxmlformats.org/officeDocument/2006/relationships/hyperlink" Target="http://www.medikal.ro/dictionarmedical.html" TargetMode="External"/><Relationship Id="rId25" Type="http://schemas.openxmlformats.org/officeDocument/2006/relationships/hyperlink" Target="http://www.medikal.ro/dictionarmedical.html" TargetMode="External"/><Relationship Id="rId26" Type="http://schemas.openxmlformats.org/officeDocument/2006/relationships/hyperlink" Target="http://www.medikal.ro/dictionarmedical.html" TargetMode="External"/><Relationship Id="rId27" Type="http://schemas.openxmlformats.org/officeDocument/2006/relationships/hyperlink" Target="http://www.dmo.ro/" TargetMode="External"/><Relationship Id="rId28" Type="http://schemas.openxmlformats.org/officeDocument/2006/relationships/hyperlink" Target="http://www.dmo.ro/" TargetMode="External"/><Relationship Id="rId29" Type="http://schemas.openxmlformats.org/officeDocument/2006/relationships/hyperlink" Target="http://www.dmo.ro/" TargetMode="External"/><Relationship Id="rId30" Type="http://schemas.openxmlformats.org/officeDocument/2006/relationships/hyperlink" Target="http://www.dmo.ro/" TargetMode="External"/><Relationship Id="rId31" Type="http://schemas.openxmlformats.org/officeDocument/2006/relationships/hyperlink" Target="http://www.healthy.ro/articol/Enciclopedie-medicala" TargetMode="External"/><Relationship Id="rId32" Type="http://schemas.openxmlformats.org/officeDocument/2006/relationships/hyperlink" Target="http://www.healthy.ro/articol/Enciclopedie-medicala" TargetMode="External"/><Relationship Id="rId33" Type="http://schemas.openxmlformats.org/officeDocument/2006/relationships/hyperlink" Target="http://www.healthy.ro/articol/Enciclopedie-medicala" TargetMode="External"/><Relationship Id="rId34" Type="http://schemas.openxmlformats.org/officeDocument/2006/relationships/hyperlink" Target="http://www.healthy.ro/articol/Enciclopedie-medicala" TargetMode="External"/><Relationship Id="rId35" Type="http://schemas.openxmlformats.org/officeDocument/2006/relationships/hyperlink" Target="http://www.healthy.ro/articol/Enciclopedie-medicala" TargetMode="External"/><Relationship Id="rId36" Type="http://schemas.openxmlformats.org/officeDocument/2006/relationships/hyperlink" Target="http://www.healthy.ro/articol/Enciclopedie-medicala" TargetMode="External"/><Relationship Id="rId37" Type="http://schemas.openxmlformats.org/officeDocument/2006/relationships/hyperlink" Target="http://www.healthy.ro/articol/Enciclopedie-medicala" TargetMode="External"/><Relationship Id="rId38" Type="http://schemas.openxmlformats.org/officeDocument/2006/relationships/hyperlink" Target="http://www.healthy.ro/articol/Enciclopedie-medicala" TargetMode="External"/><Relationship Id="rId39" Type="http://schemas.openxmlformats.org/officeDocument/2006/relationships/hyperlink" Target="http://www.healthy.ro/articol/Enciclopedie-medicala" TargetMode="External"/><Relationship Id="rId4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ec.es/educa/sistema-educativo/logse/siseduc.html" TargetMode="External"/><Relationship Id="rId2" Type="http://schemas.openxmlformats.org/officeDocument/2006/relationships/hyperlink" Target="http://www.educaweb.com/edw/seccion.asp?sec=2" TargetMode="External"/><Relationship Id="rId3" Type="http://schemas.openxmlformats.org/officeDocument/2006/relationships/hyperlink" Target="http://www.educarm.es/templates/portal/images/ficheros/diversidad/6/secciones/74/contenidos/426/_espanol.pdf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itforeurope.info/webcom/show_page_ffee.php?wc_c=19699&amp;wc_id=1&amp;wc_lkm=106436&amp;PHPSESSID=ba9c1dd" TargetMode="External"/><Relationship Id="rId2" Type="http://schemas.openxmlformats.org/officeDocument/2006/relationships/hyperlink" Target="http://www.fitforeurope.info/webcom/show_page_ffee.php?wc_c=19699&amp;wc_id=1&amp;wc_lkm=106436&amp;PHPSESSID=ba9c1dd" TargetMode="External"/><Relationship Id="rId3" Type="http://schemas.openxmlformats.org/officeDocument/2006/relationships/hyperlink" Target="http://www.edu.ro/index.php" TargetMode="External"/><Relationship Id="rId4" Type="http://schemas.openxmlformats.org/officeDocument/2006/relationships/hyperlink" Target="http://www.old.edu.ro/preu_struct.html" TargetMode="External"/><Relationship Id="rId5" Type="http://schemas.openxmlformats.org/officeDocument/2006/relationships/hyperlink" Target="http://www.old.edu.ro/preu_struct.html" TargetMode="External"/><Relationship Id="rId6" Type="http://schemas.openxmlformats.org/officeDocument/2006/relationships/hyperlink" Target="http://www.old.edu.ro/preu_struct.html" TargetMode="External"/><Relationship Id="rId7" Type="http://schemas.openxmlformats.org/officeDocument/2006/relationships/hyperlink" Target="http://www.old.edu.ro/preu_struct.html" TargetMode="External"/><Relationship Id="rId8" Type="http://schemas.openxmlformats.org/officeDocument/2006/relationships/hyperlink" Target="http://www.old.edu.ro/preu_struct.html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ae.rae.es/" TargetMode="External"/><Relationship Id="rId2" Type="http://schemas.openxmlformats.org/officeDocument/2006/relationships/hyperlink" Target="http://www.diccionarios.com/" TargetMode="External"/><Relationship Id="rId3" Type="http://schemas.openxmlformats.org/officeDocument/2006/relationships/hyperlink" Target="http://www.diccionarios.com/" TargetMode="External"/><Relationship Id="rId4" Type="http://schemas.openxmlformats.org/officeDocument/2006/relationships/hyperlink" Target="http://www.diccionarios.com/" TargetMode="External"/><Relationship Id="rId5" Type="http://schemas.openxmlformats.org/officeDocument/2006/relationships/hyperlink" Target="http://www.diccionarios.com/" TargetMode="External"/><Relationship Id="rId6" Type="http://schemas.openxmlformats.org/officeDocument/2006/relationships/hyperlink" Target="http://www.elmundo.es/diccionarios/" TargetMode="External"/><Relationship Id="rId7" Type="http://schemas.openxmlformats.org/officeDocument/2006/relationships/hyperlink" Target="http://www.elmundo.es/diccionarios/" TargetMode="External"/><Relationship Id="rId8" Type="http://schemas.openxmlformats.org/officeDocument/2006/relationships/hyperlink" Target="http://dexonline.ro/" TargetMode="External"/><Relationship Id="rId9" Type="http://schemas.openxmlformats.org/officeDocument/2006/relationships/hyperlink" Target="http://www.vocabular.ro/" TargetMode="External"/><Relationship Id="rId10" Type="http://schemas.openxmlformats.org/officeDocument/2006/relationships/hyperlink" Target="http://www.vocabular.ro/" TargetMode="External"/><Relationship Id="rId11" Type="http://schemas.openxmlformats.org/officeDocument/2006/relationships/hyperlink" Target="http://www.vocabular.ro/" TargetMode="External"/><Relationship Id="rId12" Type="http://schemas.openxmlformats.org/officeDocument/2006/relationships/hyperlink" Target="http://www.vocabular.ro/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ctionar-online.ro/roman_spaniol.php" TargetMode="External"/><Relationship Id="rId2" Type="http://schemas.openxmlformats.org/officeDocument/2006/relationships/hyperlink" Target="http://www.dictionar-online.ro/roman_spaniol.php" TargetMode="External"/><Relationship Id="rId3" Type="http://schemas.openxmlformats.org/officeDocument/2006/relationships/hyperlink" Target="http://www.dictionar-online.ro/roman_spaniol.php" TargetMode="External"/><Relationship Id="rId4" Type="http://schemas.openxmlformats.org/officeDocument/2006/relationships/hyperlink" Target="http://www.dictionar-online.ro/roman_spaniol.php" TargetMode="External"/><Relationship Id="rId5" Type="http://schemas.openxmlformats.org/officeDocument/2006/relationships/hyperlink" Target="http://www.dictionar-online.ro/roman_spaniol.php" TargetMode="External"/><Relationship Id="rId6" Type="http://schemas.openxmlformats.org/officeDocument/2006/relationships/hyperlink" Target="http://www.dictionar-online.ro/roman_spaniol.php" TargetMode="External"/><Relationship Id="rId7" Type="http://schemas.openxmlformats.org/officeDocument/2006/relationships/hyperlink" Target="http://www.dictionar-online.ro/roman_spaniol.php" TargetMode="External"/><Relationship Id="rId8" Type="http://schemas.openxmlformats.org/officeDocument/2006/relationships/hyperlink" Target="http://iate.europa.eu/iatediff/" TargetMode="External"/><Relationship Id="rId9" Type="http://schemas.openxmlformats.org/officeDocument/2006/relationships/hyperlink" Target="http://iate.europa.eu/iatediff/" TargetMode="External"/><Relationship Id="rId10" Type="http://schemas.openxmlformats.org/officeDocument/2006/relationships/hyperlink" Target="http://iate.europa.eu/iatediff/" TargetMode="External"/><Relationship Id="rId11" Type="http://schemas.openxmlformats.org/officeDocument/2006/relationships/hyperlink" Target="http://iate.europa.eu/iatediff/" TargetMode="External"/><Relationship Id="rId12" Type="http://schemas.openxmlformats.org/officeDocument/2006/relationships/hyperlink" Target="http://iate.europa.eu/iatediff/" TargetMode="External"/><Relationship Id="rId13" Type="http://schemas.openxmlformats.org/officeDocument/2006/relationships/hyperlink" Target="http://iate.europa.eu/iatediff/" TargetMode="External"/><Relationship Id="rId14" Type="http://schemas.openxmlformats.org/officeDocument/2006/relationships/hyperlink" Target="http://www.tv5.org/TV5Site/alexandria/definition.php" TargetMode="External"/><Relationship Id="rId15" Type="http://schemas.openxmlformats.org/officeDocument/2006/relationships/hyperlink" Target="http://www.tv5.org/TV5Site/alexandria/definition.php" TargetMode="External"/><Relationship Id="rId16" Type="http://schemas.openxmlformats.org/officeDocument/2006/relationships/hyperlink" Target="http://www.tv5.org/TV5Site/alexandria/definition.php" TargetMode="External"/><Relationship Id="rId17" Type="http://schemas.openxmlformats.org/officeDocument/2006/relationships/hyperlink" Target="http://www.tv5.org/TV5Site/alexandria/definition.php" TargetMode="External"/><Relationship Id="rId18" Type="http://schemas.openxmlformats.org/officeDocument/2006/relationships/hyperlink" Target="http://www.tv5.org/TV5Site/alexandria/definition.php" TargetMode="External"/><Relationship Id="rId19" Type="http://schemas.openxmlformats.org/officeDocument/2006/relationships/hyperlink" Target="http://www.tv5.org/TV5Site/alexandria/definition.php" TargetMode="External"/><Relationship Id="rId20" Type="http://schemas.openxmlformats.org/officeDocument/2006/relationships/hyperlink" Target="http://www.tv5.org/TV5Site/alexandria/definition.php" TargetMode="External"/><Relationship Id="rId21" Type="http://schemas.openxmlformats.org/officeDocument/2006/relationships/hyperlink" Target="http://www.tv5.org/TV5Site/alexandria/definition.php" TargetMode="External"/><Relationship Id="rId22" Type="http://schemas.openxmlformats.org/officeDocument/2006/relationships/hyperlink" Target="http://www.tv5.org/TV5Site/alexandria/definition.php" TargetMode="External"/><Relationship Id="rId23" Type="http://schemas.openxmlformats.org/officeDocument/2006/relationships/hyperlink" Target="http://www.tv5.org/TV5Site/alexandria/definition.php" TargetMode="External"/><Relationship Id="rId24" Type="http://schemas.openxmlformats.org/officeDocument/2006/relationships/hyperlink" Target="http://www.tv5.org/TV5Site/alexandria/definition.php" TargetMode="External"/><Relationship Id="rId25" Type="http://schemas.openxmlformats.org/officeDocument/2006/relationships/hyperlink" Target="http://www.dictionar.us/roman-spaniol/" TargetMode="External"/><Relationship Id="rId26" Type="http://schemas.openxmlformats.org/officeDocument/2006/relationships/hyperlink" Target="http://www.dictionar.us/roman-spaniol/" TargetMode="External"/><Relationship Id="rId27" Type="http://schemas.openxmlformats.org/officeDocument/2006/relationships/hyperlink" Target="http://www.dictionar.us/roman-spaniol/" TargetMode="External"/><Relationship Id="rId28" Type="http://schemas.openxmlformats.org/officeDocument/2006/relationships/hyperlink" Target="http://www.dictionar.us/roman-spaniol/" TargetMode="External"/><Relationship Id="rId29" Type="http://schemas.openxmlformats.org/officeDocument/2006/relationships/hyperlink" Target="http://www.dictionar.us/roman-spaniol/" TargetMode="External"/><Relationship Id="rId30" Type="http://schemas.openxmlformats.org/officeDocument/2006/relationships/hyperlink" Target="http://www.dictionar.us/roman-spaniol/" TargetMode="External"/><Relationship Id="rId31" Type="http://schemas.openxmlformats.org/officeDocument/2006/relationships/hyperlink" Target="http://www.dictionar.us/roman-spaniol/" TargetMode="External"/><Relationship Id="rId32" Type="http://schemas.openxmlformats.org/officeDocument/2006/relationships/hyperlink" Target="http://www.dictionar.us/roman-spaniol/" TargetMode="External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ctionar.ro/" TargetMode="External"/><Relationship Id="rId2" Type="http://schemas.openxmlformats.org/officeDocument/2006/relationships/hyperlink" Target="http://www.dictionar.ro/" TargetMode="External"/><Relationship Id="rId3" Type="http://schemas.openxmlformats.org/officeDocument/2006/relationships/hyperlink" Target="http://www.dictionar.ro/" TargetMode="External"/><Relationship Id="rId4" Type="http://schemas.openxmlformats.org/officeDocument/2006/relationships/hyperlink" Target="http://www.dictionar.ro/" TargetMode="External"/><Relationship Id="rId5" Type="http://schemas.openxmlformats.org/officeDocument/2006/relationships/hyperlink" Target="http://www.dictionar-roman.com/" TargetMode="External"/><Relationship Id="rId6" Type="http://schemas.openxmlformats.org/officeDocument/2006/relationships/hyperlink" Target="http://www.dictionar-roman.com/" TargetMode="External"/><Relationship Id="rId7" Type="http://schemas.openxmlformats.org/officeDocument/2006/relationships/hyperlink" Target="http://www.dictionar-roman.com/" TargetMode="External"/><Relationship Id="rId8" Type="http://schemas.openxmlformats.org/officeDocument/2006/relationships/hyperlink" Target="http://www.dictionar-roman.com/" TargetMode="External"/><Relationship Id="rId9" Type="http://schemas.openxmlformats.org/officeDocument/2006/relationships/hyperlink" Target="http://www.dictionar-roman.com/" TargetMode="External"/><Relationship Id="rId10" Type="http://schemas.openxmlformats.org/officeDocument/2006/relationships/hyperlink" Target="http://www.dictionar-roman.com/" TargetMode="External"/><Relationship Id="rId11" Type="http://schemas.openxmlformats.org/officeDocument/2006/relationships/hyperlink" Target="http://dictionary.4romania.com/" TargetMode="External"/><Relationship Id="rId12" Type="http://schemas.openxmlformats.org/officeDocument/2006/relationships/hyperlink" Target="http://dictionary.4romania.com/" TargetMode="External"/><Relationship Id="rId13" Type="http://schemas.openxmlformats.org/officeDocument/2006/relationships/hyperlink" Target="http://dictionary.4romania.com/" TargetMode="External"/><Relationship Id="rId14" Type="http://schemas.openxmlformats.org/officeDocument/2006/relationships/hyperlink" Target="http://dictionary.4romania.com/" TargetMode="External"/><Relationship Id="rId15" Type="http://schemas.openxmlformats.org/officeDocument/2006/relationships/hyperlink" Target="http://dictionary.4romania.com/" TargetMode="External"/><Relationship Id="rId16" Type="http://schemas.openxmlformats.org/officeDocument/2006/relationships/hyperlink" Target="http://dictionary.4romania.com/" TargetMode="External"/><Relationship Id="rId17" Type="http://schemas.openxmlformats.org/officeDocument/2006/relationships/hyperlink" Target="http://www.free-soft.ro/everest/everest.html%20%0D16" TargetMode="External"/><Relationship Id="rId18" Type="http://schemas.openxmlformats.org/officeDocument/2006/relationships/hyperlink" Target="http://www.free-soft.ro/everest/everest.html%20%0D16" TargetMode="External"/><Relationship Id="rId19" Type="http://schemas.openxmlformats.org/officeDocument/2006/relationships/hyperlink" Target="http://www.free-soft.ro/everest/everest.html%20%0D16" TargetMode="External"/><Relationship Id="rId20" Type="http://schemas.openxmlformats.org/officeDocument/2006/relationships/hyperlink" Target="http://www.free-soft.ro/everest/everest.html%20%0D16" TargetMode="External"/><Relationship Id="rId21" Type="http://schemas.openxmlformats.org/officeDocument/2006/relationships/hyperlink" Target="http://www.free-soft.ro/everest/everest.html%20%0D16" TargetMode="External"/><Relationship Id="rId22" Type="http://schemas.openxmlformats.org/officeDocument/2006/relationships/hyperlink" Target="http://www.free-soft.ro/everest/everest.html%20%0D16" TargetMode="External"/><Relationship Id="rId23" Type="http://schemas.openxmlformats.org/officeDocument/2006/relationships/hyperlink" Target="http://www.free-soft.ro/everest/everest.html%20%0D16" TargetMode="External"/><Relationship Id="rId24" Type="http://schemas.openxmlformats.org/officeDocument/2006/relationships/hyperlink" Target="http://www.free-soft.ro/everest/everest.html%20%0D16" TargetMode="External"/><Relationship Id="rId25" Type="http://schemas.openxmlformats.org/officeDocument/2006/relationships/hyperlink" Target="http://www.free-soft.ro/everest/everest.html%20%0D16" TargetMode="External"/><Relationship Id="rId26" Type="http://schemas.openxmlformats.org/officeDocument/2006/relationships/hyperlink" Target="http://www.free-soft.ro/everest/everest.html%20%0D16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ranslation.langenberg.com/" TargetMode="External"/><Relationship Id="rId2" Type="http://schemas.openxmlformats.org/officeDocument/2006/relationships/hyperlink" Target="http://translation.langenberg.com/" TargetMode="External"/><Relationship Id="rId3" Type="http://schemas.openxmlformats.org/officeDocument/2006/relationships/hyperlink" Target="http://www.tranexp.com:2000/Translate/result.shtml" TargetMode="External"/><Relationship Id="rId4" Type="http://schemas.openxmlformats.org/officeDocument/2006/relationships/hyperlink" Target="http://www.tranexp.com:2000/Translate/result.shtml" TargetMode="External"/><Relationship Id="rId5" Type="http://schemas.openxmlformats.org/officeDocument/2006/relationships/hyperlink" Target="http://www.tranexp.com:2000/Translate/result.shtml" TargetMode="External"/><Relationship Id="rId6" Type="http://schemas.openxmlformats.org/officeDocument/2006/relationships/hyperlink" Target="http://www.tranexp.com:2000/Translate/result.shtml" TargetMode="External"/><Relationship Id="rId7" Type="http://schemas.openxmlformats.org/officeDocument/2006/relationships/hyperlink" Target="http://www.tranexp.com:2000/Translate/result.shtml" TargetMode="External"/><Relationship Id="rId8" Type="http://schemas.openxmlformats.org/officeDocument/2006/relationships/hyperlink" Target="http://www.tranexp.com:2000/Translate/result.shtml" TargetMode="External"/><Relationship Id="rId9" Type="http://schemas.openxmlformats.org/officeDocument/2006/relationships/hyperlink" Target="http://www.tranexp.com:2000/Translate/result.shtml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ursos online para la T&amp;ISSPP </a:t>
            </a:r>
            <a:br>
              <a:rPr sz="2000"/>
            </a:b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pañol-rum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anca Vital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versidad de Alcal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Tipos de recursos: ámbito sanitari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xicográficos: diccionarios, enciclopedias, glos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áginas especi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spitales, fundaciones, as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ám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ía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.1 Recursos ámbito sanitario españ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ada uno incluye también un diccionario méd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Universitaria De Nav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cun.es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index.php?id=9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en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www.buenasalud.com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/di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mpus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www.campusred.net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campusalud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/listados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lista_glosario.as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Recursos de carácter lexic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lopedia Medlin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7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8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www.nlm.nih.gov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medlineplus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spanish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5"/>
              </a:rPr>
              <a:t>encyclopedia.htm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A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lopedia Ilus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6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7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8"/>
              </a:rPr>
              <a:t>www.averamckennan.org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9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0"/>
              </a:rPr>
              <a:t>ah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1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2"/>
              </a:rPr>
              <a:t>healthinf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3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4"/>
              </a:rPr>
              <a:t>enciclopedia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.2 Recursos ámbito sanitario ruma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medic.Ro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romedic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://www.sfatulmedicului.r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cfarm.Ro Farmacia Online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www.pcfarm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articole.php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Recursos lexic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opedie Medicala (Enciclopedia Médica)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www.emedonline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/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7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8"/>
              </a:rPr>
              <a:t>www.sfatulmedicului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Dictionar_medical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kal.Ro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www.medikal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5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6"/>
              </a:rPr>
              <a:t>dictionarmedic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ccionario Médico Online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7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8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9"/>
              </a:rPr>
              <a:t>www.dmo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0"/>
              </a:rPr>
              <a:t>/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lopedia Healthy (Enciclopedia Healthy)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2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3"/>
              </a:rPr>
              <a:t>www.healthy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4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5"/>
              </a:rPr>
              <a:t>articol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6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7"/>
              </a:rPr>
              <a:t>Enciclopedie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8"/>
              </a:rPr>
              <a:t>-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9"/>
              </a:rPr>
              <a:t>medical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4. Recursos ámbito educ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1 Recursos ámbito educativo españ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Descripción general del sistema educativo espa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nisterio de Educación y 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mec.es/educa/sistema-educativo/logse/siseduc.htm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duca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educaweb.com/edw/seccion.asp?sec=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Gu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uía del Sistema educativo multilingüe. Mu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www.educarm.es/templates/portal/images/ficheros/diversidad/6/secciones/74/contenidos/426/_espanol.pd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2 Recursos ámbito educativo ruma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2208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Descripción general del sistema educativo r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t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www.fitforeurope.info/webcom/show_page_ffee.php?wc_c=19699&amp;wc_id=1&amp;wc_lkm=106436&amp;PHPSESSID=ba9c1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nisterio de Educación e Investigación (Ministerul Educatiei si Cercetar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edu.ro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old.edu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preu_struct.htm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versión antigu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6. Conclu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n necesidad de recursos para trad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lta de recursos especializados en esta combinación de leng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de diccionarios bilingües generales, pero con muchas defici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luciones para los tradu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 recursos monolingü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aborar y utilizar sus propias base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rramientas CAT, de localización y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ar en la elaboración de recursos lexicográficos espec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98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98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98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. Introdu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rsos y herramientas online disponibles para traductores de la combinación español-rumano ámbito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   escasez de recursos bilingües en la combinación español-rumano a los que los traductores o los alumnos en formación en este campo pueden acu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n necesidad de diferentes tipos de recursos para facilitar y mejorar considerablemente la calidad de las trad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   recopilación de los mejores diccionarios bilingü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Diccionarios monolingü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drae.rae.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cionar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diccionarios.com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cionarios El Mun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elmundo.es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/diccionarios/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cionario Explicativo de la lengua rum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http://dexonline.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ocabulario ruma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www.vocabular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incluye, además del diccionario de la lengua moderna, una serie de otros diccionarios- de neologismos, de sinónimos y antónimos, morfológicos, ortográfico, etimológico, de  arcaísmos y regionalismos, etc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4739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ccionarios bilingü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tionar-Online.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spañol-rumano-españ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dictionar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-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online.ro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roman_spaniol.ph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A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Inter-Active Terminology for Europe, 24 lenguas europeas, rumano y español inclu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iate.europa.eu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iatediff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V5 Monde Alexa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www.tv5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7"/>
              </a:rPr>
              <a:t>.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8"/>
              </a:rPr>
              <a:t>org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TV5Site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alexandria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definition.ph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tionar.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Muchísimas combinaciones de lenguas con el rumano): 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5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6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7"/>
              </a:rPr>
              <a:t>www.dictionar.us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8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9"/>
              </a:rPr>
              <a:t>roman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0"/>
              </a:rPr>
              <a:t>-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1"/>
              </a:rPr>
              <a:t>spaniol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2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Diccionarios bilingües (segunda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ionar.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Multilingüe: español-rumano-inglés-francés-italiano-alemán)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dictionar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ionar-Roman.C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Multilingüe: rumano, español, ingles, francés, italiano, alemán, latían, griego, turco, japonés, árabe, portugués, etc.): 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://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www.dictionar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-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roman.com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ionary.4romania.Com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dictionary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.4romania.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com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/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Everest Dictionar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 (diccionario que se puede descargar)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7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8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9"/>
              </a:rPr>
              <a:t>www.free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0"/>
              </a:rPr>
              <a:t>-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1"/>
              </a:rPr>
              <a:t>soft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2"/>
              </a:rPr>
              <a:t>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3"/>
              </a:rPr>
              <a:t>everest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4"/>
              </a:rPr>
              <a:t>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5"/>
              </a:rPr>
              <a:t>everest.html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6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ntol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langtolang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Lexicool: http://www.lexicool.com/dicts-info-universal-free-dictionary-project.as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Otras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de traducción auto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dad muy baja ya que nos encontramos con traducciones d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os en la identificación de los diferentes significados de las palabras, errores léxicos y gramaticales, número reducido de palabras identificad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ngenberg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translation.langenberg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ducegratis: www.traducegrati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exp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www.tranexp.com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:2000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Translate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result.shtm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utorom: http://xixona.dlsi.ua.es/apertium-www/index.php?id=trauto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rueba de tra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utorom: traducción rumano-espa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rrores gramaticales, deficiencias léx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u merg la cumparaturi.(Yo voy de comp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Yo van a cumparatu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ma mea este acasǎ. (Mi madre está en c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Madre mía es aca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buie sa semnati aceasta chitanta. (Tiene que firmar este recib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Tener suya semnati esta chit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mneavoastrǎ trebuie sǎ semnati aceastǎ chitantǎ. (Usted tiene que firmar este recib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Dumneavoastrǎ tiene sǎ semnati aceastǎ chitant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3. Recursos ámbito sanit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campo de la traducción especializada -concretamente en el ámbito sanitario- en la combinación español-rumano solamente se han encontrado recursos monolingü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 es la solu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Trabajar con documentos y recursos monolingü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son los recursos de más ut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iu</cp:lastModifiedBy>
  <dcterms:modified xsi:type="dcterms:W3CDTF">2009-11-03T01:43:43Z</dcterms:modified>
  <cp:revision>17</cp:revision>
  <dc:subject/>
  <dc:title>PowerPoint Presentation</dc:title>
</cp:coreProperties>
</file>